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8A2-6E2F-4AAB-8278-DE1F7110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09C-CD77-4932-81ED-6C56C71A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14F-17E6-4AA5-A4A9-B99C221B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079-0097-438F-9955-23CCBA7F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112-12C3-48CE-A3E8-72603573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F14-BB66-4749-A34B-B0C3BE71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03D-1F0E-4D4F-A878-7F32C16E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E68-C209-49C8-B075-35E0EC06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67A-E33A-4E16-B477-CF74C586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FD3-2223-4F9F-B1C0-8C18DC5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A1B-1696-42D3-922B-8211B26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FDE-CAD8-4D19-9610-F72B4A5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4AD-19BF-45FB-AAB3-E3A20464F9DE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41:32Z</dcterms:modified>
  <cp:revision>31</cp:revision>
  <dc:subject/>
  <dc:title>SALARIUL</dc:title>
</cp:coreProperties>
</file>